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4D741-50B1-45AE-B221-8DEA93E7A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BBDEA-F107-4C6D-9CF5-9333E7554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17355-9F38-405D-BBFF-E6A7BAB99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7C878-1640-4BDD-A0D2-350891961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D0016-752B-408C-9E3A-BBBF0CE52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1A3FB-0E28-4E16-BE93-ED8077FAA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BB8CF-E1E0-4991-8FFF-477A11333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32F68-39DB-46F2-83A7-B58391EB8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FAD80-A5CA-408D-AA15-5D02D182B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FE83C-AC3E-47E1-9DC8-9AB618BF2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7F187-D202-44DF-A7AB-6083818F1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4E9E4-11CD-40D9-A94A-D2DF96828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33F6D-30FF-40B6-80C1-B00B177B1F35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46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대학교병원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80520" y="4436640"/>
            <a:ext cx="8533080" cy="186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생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김은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혜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기간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8.12.29 ~ 09.02.20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교 통 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치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광역시 서구 구덕로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5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하철 이용시 편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 지하철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선 토성동역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번 출구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 내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화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머리망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블라우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카라있는 면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초기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퇴근시 정장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후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편안한 복장으로 출퇴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말 휴무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5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+</a:t>
            </a:r>
            <a:r>
              <a:rPr b="1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α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원 식당에서 해결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권구입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,5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물리치료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장님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실장님 외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5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8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SOAP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노트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주일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씩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첫 주 제외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약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에 한번 걷어서 검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과제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논문 번역 발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실습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8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실습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을 접할 수 있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직접 환자를  다룰 수 있는 기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밥이 비싸고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이 좁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Windows XP</cp:lastModifiedBy>
  <dcterms:modified xsi:type="dcterms:W3CDTF">2009-04-09T08:11:46Z</dcterms:modified>
  <cp:revision>12</cp:revision>
  <dc:subject/>
  <dc:title>영남대학교의료원</dc:title>
</cp:coreProperties>
</file>